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1D9-FE04-46C0-AE77-CD06D0A6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952-DB30-426F-9594-FCAE0C25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BB1-B88E-4D7D-85F0-AD18A59A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C7B-94FC-48B5-8A46-F10A001E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A219-AF25-4C98-B65E-8A52F269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A77E-5152-42C1-A20C-297A0FA7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6D67-E264-45BB-A9D4-81C03FDC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F0DD-01FE-4DD4-8672-01059604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DE81-DAFB-4A9C-967B-13FFA16D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A52F-481F-4717-97C1-617C2844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D21D-ED2D-4CA0-907A-7685197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86E-4E1F-4D9B-B4B2-ED6F28EE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0A3C-52F5-473D-B374-8AEE0E1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6104-44F4-47ED-9595-7D4B2603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7F4B-1014-4D15-A5FD-792D57FE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1825-623A-4125-8527-942DF105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AD8D-539D-4489-A0D1-F0BD7280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6B6-5EA7-49C8-9112-CDDFE539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650-721B-4F7C-9836-88F439ED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E5C-1BEF-43D4-B6E8-B91D58B7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C71-C95A-4DAD-9BF3-BA0B5D6D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DB6-5102-445A-8352-1FBFDF5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313-E993-4B69-8932-ECD7C90B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C48-BC2B-480E-838E-C6188523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7E55-46A9-4FF6-9D9E-B2203AD86F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B447-8DF5-459A-81D4-04F2D14D40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boratori territoriali per raccordo domanda offerta di formazione e lavoro – Fondo di perequazione 2006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3C72-4FD1-4316-862C-140248D594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solidare il ruolo delle C.C.I.A.A. nella promozione della modalità didattica dell’alternanza scuola-lavor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1E3-757D-45DA-AB45-923A3DFCDE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18 progetti di alternanza scuola-lavoro (2 per provinc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3 corsi di “formazione Formatori” Tutor Alternanza S-L di 5 moduli ciascu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4 giornate formative per gli operatori camerali – argomenti da approfondire: Poli Tecnici, Alternanza scuola-lavoro, Orientamento professionale e scolastico, Osservatorio Imprese, Sportello Polaris, Laboratori Territoriali, Sistema informativo Excelsior; implementazione del piano operativo – fondo di perequazione 2006 a sostegno delle azioni previs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4AA-EED8-4407-AFA9-BD7392F8CA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Camere di commercio dell’Emilia-Romagna, sulla base del ruolo acquisito attraverso lo sviluppo del Sistema informativo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xcelsior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 l’attivazione dei percorsi di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alternanza scuola-lavor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, mirano a svolgere sul territorio provinciale una funzione rilevante per favorire e fluidificare le dinamiche d’incontro tra domanda e offerta di formazione e lavor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) attivazione di Laboratori territoriali permanenti (o Comitati territoriali) per l’incontro domanda-offerta di formazione e lavoro, formazione continu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b) supporto all’orientamento formativo e professionale per favorire le scelte degli studenti e delle persone in cerca d’occupazion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) Sviluppo dei percorsi di alternanza scuola-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FED-D6B4-4919-A887-FFD16BC851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r emergere i fabbisogni di professionalità e le competenze necessarie per lo sviluppo della competitività delle imprese; migliorare la capacità di risposta dei vari sistemi formativi (scuola, università, formazione professionale e formazione continua) ai fabbisogni espressi dalle impr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556-2111-41BB-B612-0B78C6A3C0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ttività previs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nalisi e documentazione territorial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(analisi sui fabbisogni di profili professionali delle aziende nei settori produttivi– DATI EXCELSIOR - individuati con le  C.C.I.A.A., con  identificazione e selezione dei profili-chiave; descrizione dei profili-chiave in termini di attività; identificazione e descrizione delle competenze chiave necessarie per svolgere le stesse attività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Focus group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con 2 moderatori e 5/6 rappresentanti degli universi professionali aziendali maggiormente rappresentativi del territorio per f.g., per valutare le analisi di cui al punto 1 e fare proposte per focalizzare i loro fabbisog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nterviste in profond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rivolte a specialisti della formazione nei settori di indagine a livello territori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5B9-439C-4A10-B645-1F039318D8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RISULTATI  ATTES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 Schematizzazione dati Excelsior per il sostegno alla programmazione formativa e aziendale presso istituzioni e imprese;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sistematizzazione delle indicazioni emerse nei focus group e confronto con i dati di analisi della fase 1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articolazione e proposta al tavolo delle partnership provinciali di un menù formativo per unità didattiche da sviluppare nelle aziende o nei settori coinvolti nei Laboratori Formativi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9 Report di ricerca, 1 per ogni Laboratorio provinci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1 Report integrativo e sintetico sull’insieme dei Laboratori Territoriali condott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A73-ACAC-42A6-8B3C-0E69FB4DE1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vorire la maturazione di scelte personali e professionali soddisfacenti per la persona e realizzabili nei contesti socio-economici di riferimento, con particolare attenzione alle tecniche di ricerca attiva dell’inserimento lavorativ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F8B-785B-4572-9340-1A2659E589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tività previ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incontri orientativi misti di primo livello per ciascuna Camera di commercio rivolti a un’utenza interessata ad incontrare il mondo delle aziende locali e conoscere le tipologie di competenze professionali maggiormente richieste dalle impre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ozione a livello locale sfruttando tutti i canali di comunicazione a disposizione del sistema camerale (sito web, newsletter, circolari informative, pubblicità sui giornali local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FBE-E1E8-4E9F-9836-554222AFFF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pologia di incontr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Accoglienz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Sessioni Informative su presentazione della rete Camerale  e dei servizi che offre, analisi del mercato del lavoro e delle profession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zione della struttura e degli obiettivi dei percorsi finanziati di “Formazione Alta e Superiore” e di “Istruzione e Formazione Tecnico Superiore” (IFTS), illustrando nello specifico gli eventuali corsi che al momento sono stati approvati e ai quali è possibile iscriversi; le proposte di Alta Formazione post-laurea: i Ma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niche di ricerca attiva di 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rocinio Formativo o Orient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zi camerali a sostegno dell’inserimento lav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lloqui individuali conoscitivi e di orientamento personalizzato su richiest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597-9A3A-47A8-BD71-3296659881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3366"/>
                </a:solidFill>
                <a:latin typeface="Arial"/>
              </a:rPr>
              <a:t>Esperienze pregresse di seminari di primo orientament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’attuale situazione del mercato del lavoro (ci focalizzeremo in particolare sulla regione Emilia Romagna) degli strumenti e delle modalità per entrare nel mondo del lavoro,  dei profili professionali maggiormente richies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enni sulle tecniche di ricerca attiva del lavoro (come compilare un curriculum, come affrontare un colloquio di selezione, come rispondere ad un annuncio ecc) - approfondimenti offerti anche dal sistema camerale (Ad es.al Job Club, un servizio individualizzato che supporta l’utente in un breve percorso di orientamento finalizzato alla ricerca attiva del lavor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irocinio come esperienza professionalizzante: differenza tra stage e tirocinio formativo, potenzialità dello strume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e offerte della settimana (profili professionali richiesti dalle aziende per il tirocinio, eventuale focus su corsi in partenza, ec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lloquio conoscitivo / orientativo (al termine dell’incontro inform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5B8-EC3A-4250-A313-63694BF226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5:43:08Z</dcterms:modified>
  <cp:revision>6</cp:revision>
  <dc:subject/>
  <dc:title>Laboratori territoriali per raccordo domanda offerta di formazione e lavoro – Fondo di perequazione 2006</dc:title>
</cp:coreProperties>
</file>